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glass.wav" ContentType="audio/x-wav"/>
  <Override PartName="/ppt/media/image10.png" ContentType="image/png"/>
  <Override PartName="/ppt/media/image5.wmf" ContentType="image/x-wmf"/>
  <Override PartName="/ppt/media/image6.png" ContentType="image/png"/>
  <Override PartName="/ppt/media/image12.png" ContentType="image/png"/>
  <Override PartName="/ppt/media/image7.wmf" ContentType="image/x-wmf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FB2-8F00-4A8D-B9DD-65A46C6A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F10-B5A9-4E66-A399-D269F0E7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3FC-AE43-4FB5-828A-8D4E20FB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8C2B-EA5F-4341-8CBE-32501D1B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FAE4-C273-4C2D-9F75-F43B5215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5C8B-9296-4805-A600-57B3EE38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2B6C-1EFC-4EDF-9B8C-1B808310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E701-0336-4794-8DCC-F1ABF853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4F99-0F02-435D-A5DB-46C5745E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89AB-D0FD-4357-9093-4F704765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9D4E-9E09-4F90-8949-0F4DB0F6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E2DA-BDE7-4951-824F-D441847C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F1EA-491B-4290-BA7E-FA3D1143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4E44-21D0-49E9-92B9-C46E9BEC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C378-3C4A-4F93-B725-7AAFE7C0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000B-BA1B-4FC5-AA99-583AFDD8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467C-2ABD-4694-A371-BC64C155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573-B440-42B1-910E-DCB0F39D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C35-726A-4848-B86E-E7C02E4C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EEC-AF1A-4B14-AE7C-52E5E64E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CE9-7BE3-43BE-A55F-87B6607F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A8D7-3600-4F76-A4C1-99025EC8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5337-9A70-4721-A860-8CCF7598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68D-7AE3-4EDF-9CE1-59DC8222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B968-F626-4ECF-9466-3101D8751242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27E3-2530-4C03-B863-D8B60B13C1F5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4.xml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590560" y="5181480"/>
            <a:ext cx="3429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Arial Narrow"/>
              </a:rPr>
              <a:t>enter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33720" y="5638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91320" y="4419720"/>
            <a:ext cx="2361960" cy="2090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18280" y="3789360"/>
            <a:ext cx="56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 Narrow"/>
                <a:ea typeface="华文彩云"/>
              </a:rPr>
              <a:t>驾驭自己，掌握人生——主题班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 Narrow"/>
              </a:rPr>
              <a:t>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   </a:t>
            </a:r>
            <a:r>
              <a:rPr b="0" lang="zh-CN" sz="2000" spc="-1" strike="noStrike">
                <a:solidFill>
                  <a:srgbClr val="b0ae6a"/>
                </a:solidFill>
                <a:latin typeface="宋体"/>
              </a:rPr>
              <a:t>在平常的生活、学习中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,</a:t>
            </a:r>
            <a:r>
              <a:rPr b="0" lang="zh-CN" sz="2000" spc="-1" strike="noStrike">
                <a:solidFill>
                  <a:srgbClr val="b0ae6a"/>
                </a:solidFill>
                <a:latin typeface="宋体"/>
              </a:rPr>
              <a:t>我们每个人都要注意培养自己健康的心理素质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,</a:t>
            </a:r>
            <a:r>
              <a:rPr b="0" lang="zh-CN" sz="2000" spc="-1" strike="noStrike">
                <a:solidFill>
                  <a:srgbClr val="b0ae6a"/>
                </a:solidFill>
                <a:latin typeface="宋体"/>
              </a:rPr>
              <a:t>要能够做到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  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(1)</a:t>
            </a:r>
            <a:r>
              <a:rPr b="0" lang="zh-CN" sz="2000" spc="-1" strike="noStrike">
                <a:solidFill>
                  <a:srgbClr val="b0ae6a"/>
                </a:solidFill>
                <a:latin typeface="宋体"/>
              </a:rPr>
              <a:t>具有良好的心理品质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,</a:t>
            </a:r>
            <a:r>
              <a:rPr b="0" lang="zh-CN" sz="2000" spc="-1" strike="noStrike">
                <a:solidFill>
                  <a:srgbClr val="b0ae6a"/>
                </a:solidFill>
                <a:latin typeface="宋体"/>
              </a:rPr>
              <a:t>预防心理障碍的发生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  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(2)</a:t>
            </a:r>
            <a:r>
              <a:rPr b="0" lang="zh-CN" sz="2000" spc="-1" strike="noStrike">
                <a:solidFill>
                  <a:srgbClr val="b0ae6a"/>
                </a:solidFill>
                <a:latin typeface="宋体"/>
              </a:rPr>
              <a:t>开发自己的各种潜能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,</a:t>
            </a:r>
            <a:r>
              <a:rPr b="0" lang="zh-CN" sz="2000" spc="-1" strike="noStrike">
                <a:solidFill>
                  <a:srgbClr val="b0ae6a"/>
                </a:solidFill>
                <a:latin typeface="宋体"/>
              </a:rPr>
              <a:t>提高工作和生活质量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  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(3)</a:t>
            </a:r>
            <a:r>
              <a:rPr b="0" lang="zh-CN" sz="2000" spc="-1" strike="noStrike">
                <a:solidFill>
                  <a:srgbClr val="b0ae6a"/>
                </a:solidFill>
                <a:latin typeface="宋体"/>
              </a:rPr>
              <a:t>激发自己的非智力因素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,</a:t>
            </a:r>
            <a:r>
              <a:rPr b="0" lang="zh-CN" sz="2000" spc="-1" strike="noStrike">
                <a:solidFill>
                  <a:srgbClr val="b0ae6a"/>
                </a:solidFill>
                <a:latin typeface="宋体"/>
              </a:rPr>
              <a:t>尝试创造性的学习和工作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  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(4)</a:t>
            </a:r>
            <a:r>
              <a:rPr b="0" lang="zh-CN" sz="2000" spc="-1" strike="noStrike">
                <a:solidFill>
                  <a:srgbClr val="b0ae6a"/>
                </a:solidFill>
                <a:latin typeface="宋体"/>
              </a:rPr>
              <a:t>提高自己人际交往的能力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,</a:t>
            </a:r>
            <a:r>
              <a:rPr b="0" lang="zh-CN" sz="2000" spc="-1" strike="noStrike">
                <a:solidFill>
                  <a:srgbClr val="b0ae6a"/>
                </a:solidFill>
                <a:latin typeface="宋体"/>
              </a:rPr>
              <a:t>增强自己的社会适应性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  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(5)</a:t>
            </a:r>
            <a:r>
              <a:rPr b="0" lang="zh-CN" sz="2000" spc="-1" strike="noStrike">
                <a:solidFill>
                  <a:srgbClr val="b0ae6a"/>
                </a:solidFill>
                <a:latin typeface="宋体"/>
              </a:rPr>
              <a:t>增强自我意识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,</a:t>
            </a:r>
            <a:r>
              <a:rPr b="0" lang="zh-CN" sz="2000" spc="-1" strike="noStrike">
                <a:solidFill>
                  <a:srgbClr val="b0ae6a"/>
                </a:solidFill>
                <a:latin typeface="宋体"/>
              </a:rPr>
              <a:t>培养自我评价能力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 </a:t>
            </a:r>
            <a:r>
              <a:rPr b="0" lang="zh-CN" sz="2000" spc="-1" strike="noStrike">
                <a:solidFill>
                  <a:srgbClr val="b0ae6a"/>
                </a:solidFill>
                <a:latin typeface="宋体"/>
              </a:rPr>
              <a:t>人们的心理健康不仅关系到个人的生活、学习、成长、幸福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,</a:t>
            </a:r>
            <a:r>
              <a:rPr b="0" lang="zh-CN" sz="2000" spc="-1" strike="noStrike">
                <a:solidFill>
                  <a:srgbClr val="b0ae6a"/>
                </a:solidFill>
                <a:latin typeface="宋体"/>
              </a:rPr>
              <a:t>也关系到社会的发展、民族的兴衰。家庭、学校、社会等应该通过具体可操作的方法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,</a:t>
            </a:r>
            <a:r>
              <a:rPr b="0" lang="zh-CN" sz="2000" spc="-1" strike="noStrike">
                <a:solidFill>
                  <a:srgbClr val="b0ae6a"/>
                </a:solidFill>
                <a:latin typeface="宋体"/>
              </a:rPr>
              <a:t>增进心理健康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,</a:t>
            </a:r>
            <a:r>
              <a:rPr b="0" lang="zh-CN" sz="2000" spc="-1" strike="noStrike">
                <a:solidFill>
                  <a:srgbClr val="b0ae6a"/>
                </a:solidFill>
                <a:latin typeface="宋体"/>
              </a:rPr>
              <a:t>减少心理疾患。具体做法包括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:</a:t>
            </a:r>
            <a:r>
              <a:rPr b="0" lang="zh-CN" sz="2000" spc="-1" strike="noStrike">
                <a:solidFill>
                  <a:srgbClr val="b0ae6a"/>
                </a:solidFill>
                <a:latin typeface="宋体"/>
              </a:rPr>
              <a:t>开展心理健康教育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,</a:t>
            </a:r>
            <a:r>
              <a:rPr b="0" lang="zh-CN" sz="2000" spc="-1" strike="noStrike">
                <a:solidFill>
                  <a:srgbClr val="b0ae6a"/>
                </a:solidFill>
                <a:latin typeface="宋体"/>
              </a:rPr>
              <a:t>建立心理健康保健网络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,</a:t>
            </a:r>
            <a:r>
              <a:rPr b="0" lang="zh-CN" sz="2000" spc="-1" strike="noStrike">
                <a:solidFill>
                  <a:srgbClr val="b0ae6a"/>
                </a:solidFill>
                <a:latin typeface="宋体"/>
              </a:rPr>
              <a:t>增设心理健康专业机构</a:t>
            </a:r>
            <a:r>
              <a:rPr b="0" lang="zh-CN" sz="2000" spc="-1" strike="noStrike">
                <a:solidFill>
                  <a:srgbClr val="b0ae6a"/>
                </a:solidFill>
                <a:latin typeface="Times New Roman"/>
                <a:ea typeface="Times New Roman"/>
              </a:rPr>
              <a:t>,</a:t>
            </a:r>
            <a:r>
              <a:rPr b="0" lang="zh-CN" sz="2000" spc="-1" strike="noStrike">
                <a:solidFill>
                  <a:srgbClr val="b0ae6a"/>
                </a:solidFill>
                <a:latin typeface="宋体"/>
              </a:rPr>
              <a:t>创造良好的社会环境等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5894280"/>
            <a:ext cx="9144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Wingdings 2"/>
                <a:ea typeface="Wingdings 2"/>
              </a:rPr>
              <a:t>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666880" y="1066680"/>
            <a:ext cx="3353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从点菜看性格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133720"/>
            <a:ext cx="6782040" cy="43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2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c7e26"/>
                </a:solidFill>
                <a:latin typeface="Verdana"/>
              </a:rPr>
              <a:t>当你和朋友或其他人到了一间饭店或酒店里用餐时，你点菜时通常会：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c7e26"/>
                </a:solidFill>
                <a:latin typeface="Verdana"/>
              </a:rPr>
              <a:t>A</a:t>
            </a:r>
            <a:r>
              <a:rPr b="0" lang="zh-CN" sz="2000" spc="-1" strike="noStrike">
                <a:solidFill>
                  <a:srgbClr val="4c7e26"/>
                </a:solidFill>
                <a:latin typeface="Verdana"/>
              </a:rPr>
              <a:t>先请店员说明菜的情况后再点菜。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c7e26"/>
                </a:solidFill>
                <a:latin typeface="Verdana"/>
              </a:rPr>
              <a:t>B</a:t>
            </a:r>
            <a:r>
              <a:rPr b="0" lang="zh-CN" sz="2000" spc="-1" strike="noStrike">
                <a:solidFill>
                  <a:srgbClr val="4c7e26"/>
                </a:solidFill>
                <a:latin typeface="Verdana"/>
              </a:rPr>
              <a:t>犹犹豫豫，点菜慢吞吞的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c7e26"/>
                </a:solidFill>
                <a:latin typeface="Verdana"/>
              </a:rPr>
              <a:t>C</a:t>
            </a:r>
            <a:r>
              <a:rPr b="0" lang="zh-CN" sz="2000" spc="-1" strike="noStrike">
                <a:solidFill>
                  <a:srgbClr val="4c7e26"/>
                </a:solidFill>
                <a:latin typeface="Verdana"/>
              </a:rPr>
              <a:t>先点好，再视周围情形而变动。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c7e26"/>
                </a:solidFill>
                <a:latin typeface="Verdana"/>
              </a:rPr>
              <a:t>D</a:t>
            </a:r>
            <a:r>
              <a:rPr b="0" lang="zh-CN" sz="2000" spc="-1" strike="noStrike">
                <a:solidFill>
                  <a:srgbClr val="4c7e26"/>
                </a:solidFill>
                <a:latin typeface="Verdana"/>
              </a:rPr>
              <a:t>先说出自己想吃的东西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c7e26"/>
                </a:solidFill>
                <a:latin typeface="Verdana"/>
              </a:rPr>
              <a:t>E</a:t>
            </a:r>
            <a:r>
              <a:rPr b="0" lang="zh-CN" sz="2000" spc="-1" strike="noStrike">
                <a:solidFill>
                  <a:srgbClr val="4c7e26"/>
                </a:solidFill>
                <a:latin typeface="Verdana"/>
              </a:rPr>
              <a:t>点和别人同样的菜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c7e26"/>
                </a:solidFill>
                <a:latin typeface="Verdana"/>
              </a:rPr>
              <a:t>F</a:t>
            </a:r>
            <a:r>
              <a:rPr b="0" lang="zh-CN" sz="2000" spc="-1" strike="noStrike">
                <a:solidFill>
                  <a:srgbClr val="4c7e26"/>
                </a:solidFill>
                <a:latin typeface="Verdana"/>
              </a:rPr>
              <a:t>不管别人，只点自己想吃的菜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迷你简启体"/>
              </a:rPr>
              <a:t>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936720"/>
            <a:ext cx="82296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cc"/>
                </a:solidFill>
                <a:latin typeface="Times New Roman"/>
              </a:rPr>
              <a:t>A</a:t>
            </a:r>
            <a:r>
              <a:rPr b="0" lang="zh-CN" sz="1800" spc="-1" strike="noStrike">
                <a:solidFill>
                  <a:srgbClr val="0099cc"/>
                </a:solidFill>
                <a:latin typeface="Times New Roman"/>
              </a:rPr>
              <a:t>自尊心强的人，讨厌别人的指挥，在做任何事之前，总是坚持自己的主张。做任何事都追求不同凡响。做事积极，在待人方面，重视双方的面子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cc"/>
                </a:solidFill>
                <a:latin typeface="Times New Roman"/>
              </a:rPr>
              <a:t>B</a:t>
            </a:r>
            <a:r>
              <a:rPr b="0" lang="zh-CN" sz="1800" spc="-1" strike="noStrike">
                <a:solidFill>
                  <a:srgbClr val="0099cc"/>
                </a:solidFill>
                <a:latin typeface="Times New Roman"/>
              </a:rPr>
              <a:t>做事一丝不苟，安全第一。但你的谨慎往往是因为过分考虑对方立场所致。能够真诚地听取别人的劝说，但不应该忘掉自己的观点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cc"/>
                </a:solidFill>
                <a:latin typeface="Times New Roman"/>
              </a:rPr>
              <a:t>C</a:t>
            </a:r>
            <a:r>
              <a:rPr b="0" lang="zh-CN" sz="1800" spc="-1" strike="noStrike">
                <a:solidFill>
                  <a:srgbClr val="0099cc"/>
                </a:solidFill>
                <a:latin typeface="Times New Roman"/>
              </a:rPr>
              <a:t>你是个小心谨慎，在工作和交友上易犹豫的人。此类型的人给人的印象是软弱的。想象力丰富，但太拘泥于细节，缺乏掌握全局的意识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cc"/>
                </a:solidFill>
                <a:latin typeface="Times New Roman"/>
              </a:rPr>
              <a:t>D</a:t>
            </a:r>
            <a:r>
              <a:rPr b="0" lang="zh-CN" sz="1800" spc="-1" strike="noStrike">
                <a:solidFill>
                  <a:srgbClr val="0099cc"/>
                </a:solidFill>
                <a:latin typeface="Times New Roman"/>
              </a:rPr>
              <a:t>性格直爽、胸禁开阔，难以启齿的事也能轻而易举，若无其事地说出来。这种人待人不拘小节。可能是为人缘故，有时说话尖刻，也不会被人记恨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cc"/>
                </a:solidFill>
                <a:latin typeface="Times New Roman"/>
              </a:rPr>
              <a:t>E</a:t>
            </a:r>
            <a:r>
              <a:rPr b="0" lang="zh-CN" sz="1800" spc="-1" strike="noStrike">
                <a:solidFill>
                  <a:srgbClr val="0099cc"/>
                </a:solidFill>
                <a:latin typeface="Times New Roman"/>
              </a:rPr>
              <a:t>这种人多是顺众型的，做事慎重。往往忽视了自我的存在。对自己的想法没有自信，常立刻顺从别人的意见，这种人是易受人影响的人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cc"/>
                </a:solidFill>
                <a:latin typeface="Times New Roman"/>
              </a:rPr>
              <a:t>F</a:t>
            </a:r>
            <a:r>
              <a:rPr b="0" lang="zh-CN" sz="1800" spc="-1" strike="noStrike">
                <a:solidFill>
                  <a:srgbClr val="0099cc"/>
                </a:solidFill>
                <a:latin typeface="Times New Roman"/>
              </a:rPr>
              <a:t>你是个乐观、完全不拘小节的人。做事果断，但是否正确却难说。先看价格后，迅速做出决定的人是合理型的；选择自己想吃的人是享受型的；比较价格与内容才决定的人，为人吝啬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219320" y="380880"/>
            <a:ext cx="7238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培养健康心理，扬起人生风帆</a:t>
            </a:r>
            <a:endParaRPr b="0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47560" y="1066320"/>
            <a:ext cx="6019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>
              <a:lnSpc>
                <a:spcPct val="10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 Narrow"/>
                <a:ea typeface="隶书"/>
              </a:rPr>
              <a:t>心理健康知多少？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ctr">
              <a:lnSpc>
                <a:spcPct val="10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 Narrow"/>
                <a:ea typeface="隶书"/>
              </a:rPr>
              <a:t>   </a:t>
            </a:r>
            <a:r>
              <a:rPr b="0" lang="zh-CN" sz="4400" spc="-1" strike="noStrike" u="sng">
                <a:solidFill>
                  <a:srgbClr val="b0ae6a"/>
                </a:solidFill>
                <a:uFillTx/>
                <a:latin typeface="Arial Narrow"/>
                <a:ea typeface="隶书"/>
                <a:hlinkClick r:id="rId2" action="ppaction://hlinksldjump"/>
              </a:rPr>
              <a:t>请你看，请你说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>
              <a:lnSpc>
                <a:spcPct val="10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 Narrow"/>
                <a:ea typeface="隶书"/>
              </a:rPr>
              <a:t>心理健康你我知                                                       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ctr">
              <a:lnSpc>
                <a:spcPct val="10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华文彩云"/>
                <a:ea typeface="隶书"/>
              </a:rPr>
              <a:t>  </a:t>
            </a:r>
            <a:r>
              <a:rPr b="1" lang="zh-CN" sz="4400" spc="-1" strike="noStrike">
                <a:solidFill>
                  <a:srgbClr val="008000"/>
                </a:solidFill>
                <a:latin typeface="华文彩云"/>
                <a:ea typeface="隶书"/>
              </a:rPr>
              <a:t>良好心理人人需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>
              <a:lnSpc>
                <a:spcPct val="10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华文彩云"/>
                <a:ea typeface="隶书"/>
              </a:rPr>
              <a:t> </a:t>
            </a:r>
            <a:r>
              <a:rPr b="1" lang="zh-CN" sz="4400" spc="-1" strike="noStrike">
                <a:solidFill>
                  <a:srgbClr val="008000"/>
                </a:solidFill>
                <a:latin typeface="华文彩云"/>
                <a:ea typeface="隶书"/>
              </a:rPr>
              <a:t>做心理的主人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ctr">
              <a:lnSpc>
                <a:spcPct val="10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9ddf1"/>
                </a:solidFill>
                <a:latin typeface="Arial Narrow"/>
                <a:ea typeface="隶书"/>
              </a:rPr>
              <a:t>           </a:t>
            </a:r>
            <a:r>
              <a:rPr b="1" lang="zh-CN" sz="4400" spc="-1" strike="noStrike">
                <a:solidFill>
                  <a:srgbClr val="c9ddf1"/>
                </a:solidFill>
                <a:latin typeface="Arial Narrow"/>
                <a:ea typeface="隶书"/>
              </a:rPr>
              <a:t>心理小测验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304920"/>
            <a:ext cx="2514600" cy="1295280"/>
          </a:xfrm>
          <a:prstGeom prst="cloudCallout">
            <a:avLst>
              <a:gd name="adj1" fmla="val -41666"/>
              <a:gd name="adj2" fmla="val 7352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238880" y="457200"/>
            <a:ext cx="862200" cy="844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0"/>
            <a:ext cx="1600200" cy="1600200"/>
          </a:xfrm>
          <a:prstGeom prst="flowChartMagneticTap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600200" cy="2743200"/>
          </a:xfrm>
          <a:prstGeom prst="flowChartMagneticTap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a3d7a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5b5249"/>
              </a:solidFill>
              <a:latin typeface="宋体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1440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-181080" y="-243000"/>
            <a:ext cx="10010880" cy="7101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380880"/>
            <a:ext cx="1143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 Narrow"/>
                <a:ea typeface="隶书"/>
              </a:rPr>
              <a:t>请同学们说出你对心理健康的了解</a:t>
            </a:r>
            <a:r>
              <a:rPr b="0" lang="zh-CN" sz="3600" spc="-1" strike="noStrike">
                <a:solidFill>
                  <a:srgbClr val="cc3300"/>
                </a:solidFill>
                <a:latin typeface="Arial Narrow"/>
                <a:ea typeface="隶书"/>
              </a:rPr>
              <a:t>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0"/>
            <a:ext cx="7705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界定一个人心理健康与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应遵循三条基本原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活动与外部环境是否具有同一性。一个人的所思所想、所作所为是否能正确的反映外部世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明显差异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过程是否具有完整性和协调性。一个人的认知过程、情绪情感过程、意志过程内容是否完整协调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性心理特征是否具有相对稳定性。在没有重大的外部环境改变的前提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的气质、性格、能力等个性特征是否相对稳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是否表现出一贯性。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华文彩云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153280" y="6324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9ddf1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09680" y="1066680"/>
            <a:ext cx="60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 Narrow"/>
                <a:ea typeface="方正舒体"/>
              </a:rPr>
              <a:t>         </a:t>
            </a:r>
            <a:r>
              <a:rPr b="1" lang="zh-CN" sz="4000" spc="-1" strike="noStrike">
                <a:solidFill>
                  <a:srgbClr val="ff3300"/>
                </a:solidFill>
                <a:latin typeface="Arial Narrow"/>
                <a:ea typeface="方正舒体"/>
              </a:rPr>
              <a:t>三国时候，诸葛亮为蜀国军师，周瑜为吴国大将，两人才智谋略个有千秋。周瑜在去世前对天长叹：既生瑜，何生亮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32000" y="530064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 Narrow"/>
                <a:ea typeface="楷体_GB2312"/>
              </a:rPr>
              <a:t>请同学们对此发表自己的意见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Arial Narrow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3399ff"/>
                </a:solidFill>
                <a:latin typeface="Arial Narrow"/>
                <a:ea typeface="楷体_GB2312"/>
              </a:rPr>
              <a:t>随着我国经济的不断发展，人们的生活水平不断提高。身边的同学们衣着也比以前亮丽多了，许多同学因此在衣着、鞋袜、学习用具方面都追求名牌，而且名牌还要进行比较，请同学们对此谈谈自己的看法</a:t>
            </a:r>
            <a:r>
              <a:rPr b="0" lang="zh-CN" sz="3200" spc="-1" strike="noStrike">
                <a:solidFill>
                  <a:srgbClr val="6699ff"/>
                </a:solidFill>
                <a:latin typeface="Arial Narrow"/>
                <a:ea typeface="楷体_GB2312"/>
              </a:rPr>
              <a:t>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43800" y="61722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6019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3e684"/>
                </a:solidFill>
                <a:latin typeface="Times New Roman"/>
              </a:rPr>
              <a:t>返回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22860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14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 </a:t>
            </a:r>
            <a:r>
              <a:rPr b="0" lang="zh-CN" sz="2000" spc="-1" strike="noStrike">
                <a:solidFill>
                  <a:srgbClr val="ff9966"/>
                </a:solidFill>
                <a:latin typeface="宋体"/>
              </a:rPr>
              <a:t>根据国内外的研究与实践</a:t>
            </a:r>
            <a:r>
              <a:rPr b="0" lang="zh-CN" sz="2000" spc="-1" strike="noStrike">
                <a:solidFill>
                  <a:srgbClr val="ff9966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ff9966"/>
                </a:solidFill>
                <a:latin typeface="宋体"/>
              </a:rPr>
              <a:t>人的心理健康水平大致可划分为三个级</a:t>
            </a:r>
            <a:r>
              <a:rPr b="0" lang="zh-CN" sz="1800" spc="-1" strike="noStrike">
                <a:solidFill>
                  <a:srgbClr val="ff7c80"/>
                </a:solidFill>
                <a:latin typeface="宋体"/>
              </a:rPr>
              <a:t>：          </a:t>
            </a:r>
            <a:r>
              <a:rPr b="0" lang="zh-CN" sz="18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14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762e71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762e71"/>
                </a:solidFill>
                <a:latin typeface="宋体"/>
              </a:rPr>
              <a:t>一般常态心理。表现为心情经常偷快满意</a:t>
            </a:r>
            <a:r>
              <a:rPr b="1" lang="zh-CN" sz="2400" spc="-1" strike="noStrike">
                <a:solidFill>
                  <a:srgbClr val="762e71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762e71"/>
                </a:solidFill>
                <a:latin typeface="宋体"/>
              </a:rPr>
              <a:t>适应能力强</a:t>
            </a:r>
            <a:r>
              <a:rPr b="1" lang="zh-CN" sz="2400" spc="-1" strike="noStrike">
                <a:solidFill>
                  <a:srgbClr val="762e71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762e71"/>
                </a:solidFill>
                <a:latin typeface="宋体"/>
              </a:rPr>
              <a:t>善于与他人相处</a:t>
            </a:r>
            <a:r>
              <a:rPr b="1" lang="zh-CN" sz="2400" spc="-1" strike="noStrike">
                <a:solidFill>
                  <a:srgbClr val="762e71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762e71"/>
                </a:solidFill>
                <a:latin typeface="宋体"/>
              </a:rPr>
              <a:t>能较好地完成同龄人发展水平应做的活动</a:t>
            </a:r>
            <a:r>
              <a:rPr b="1" lang="zh-CN" sz="2400" spc="-1" strike="noStrike">
                <a:solidFill>
                  <a:srgbClr val="762e71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762e71"/>
                </a:solidFill>
                <a:latin typeface="宋体"/>
              </a:rPr>
              <a:t>具有承受挫折、调节情绪的能力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62e71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62e71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762e71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762e71"/>
                </a:solidFill>
                <a:latin typeface="宋体"/>
              </a:rPr>
              <a:t>轻度失调心理。不具有同龄人所应有的愉快满意心境</a:t>
            </a:r>
            <a:r>
              <a:rPr b="1" lang="zh-CN" sz="2400" spc="-1" strike="noStrike">
                <a:solidFill>
                  <a:srgbClr val="762e71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762e71"/>
                </a:solidFill>
                <a:latin typeface="宋体"/>
              </a:rPr>
              <a:t>与他人相处略感困难</a:t>
            </a:r>
            <a:r>
              <a:rPr b="1" lang="zh-CN" sz="2400" spc="-1" strike="noStrike">
                <a:solidFill>
                  <a:srgbClr val="762e71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762e71"/>
                </a:solidFill>
                <a:latin typeface="宋体"/>
              </a:rPr>
              <a:t>独立应对生活工作有些吃力。若能主动调节或请专业人士帮助</a:t>
            </a:r>
            <a:r>
              <a:rPr b="1" lang="zh-CN" sz="2400" spc="-1" strike="noStrike">
                <a:solidFill>
                  <a:srgbClr val="762e71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762e71"/>
                </a:solidFill>
                <a:latin typeface="宋体"/>
              </a:rPr>
              <a:t>可以恢复常态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62e71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62e71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762e71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762e71"/>
                </a:solidFill>
                <a:latin typeface="宋体"/>
              </a:rPr>
              <a:t>严重病态心理。表现为明显的适应失调</a:t>
            </a:r>
            <a:r>
              <a:rPr b="1" lang="zh-CN" sz="2400" spc="-1" strike="noStrike">
                <a:solidFill>
                  <a:srgbClr val="762e71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762e71"/>
                </a:solidFill>
                <a:latin typeface="宋体"/>
              </a:rPr>
              <a:t>长期处于焦虑、痛苦等消极情绪中难以自拔</a:t>
            </a:r>
            <a:r>
              <a:rPr b="1" lang="zh-CN" sz="2400" spc="-1" strike="noStrike">
                <a:solidFill>
                  <a:srgbClr val="762e71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762e71"/>
                </a:solidFill>
                <a:latin typeface="宋体"/>
              </a:rPr>
              <a:t>严重影响正常的生活和工作。如不及时矫治</a:t>
            </a:r>
            <a:r>
              <a:rPr b="1" lang="zh-CN" sz="2400" spc="-1" strike="noStrike">
                <a:solidFill>
                  <a:srgbClr val="762e71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762e71"/>
                </a:solidFill>
                <a:latin typeface="宋体"/>
              </a:rPr>
              <a:t>发展下去会成为精神病患者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22860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4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新宋体"/>
                <a:ea typeface="新宋体"/>
              </a:rPr>
              <a:t> </a:t>
            </a:r>
            <a:r>
              <a:rPr b="1" lang="zh-CN" sz="2000" spc="-1" strike="noStrike">
                <a:solidFill>
                  <a:srgbClr val="5b5249"/>
                </a:solidFill>
                <a:latin typeface="新宋体"/>
                <a:ea typeface="新宋体"/>
              </a:rPr>
              <a:t>日前，在一个学术研讨会上，华中师范大学心理系主任刘华山教授讲了一个令人痛心的故事：一个重点中学的高三学生，因一点小事与姥姥口角，拿起器具就往老人头上敲。当老人因伤致死后，该生若无其事地继续复习，又连着三天参加期末考试并发挥正常。一星期后，外出的父母返家才发现此事。当他被抓起来后，对犯罪情节毫不隐瞒，公安人员问什么答什么。最后，他以自杀结束了自己的人生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4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新宋体"/>
                <a:ea typeface="新宋体"/>
              </a:rPr>
              <a:t>　　刘华山教授说，尽管许多学校都建立了心理咨询室、测量室，但这个不久前发生的例子，仍在告诫我们，心理健康是需要更深入研究与认识的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4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新宋体"/>
                <a:ea typeface="新宋体"/>
              </a:rPr>
              <a:t> 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14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新宋体"/>
                <a:ea typeface="新宋体"/>
              </a:rPr>
              <a:t>　　那么，究竟什么才是心理健康呢？如果有兴趣，请你不妨用专家的话来对照一下自己。 　　心理健康的六条标准关于心理健康的标准，刘教授说，现在大家都比较认可的有六条</a:t>
            </a:r>
            <a:r>
              <a:rPr b="1" lang="zh-CN" sz="20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0"/>
            <a:ext cx="9144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cc"/>
                </a:solidFill>
                <a:uFillTx/>
                <a:latin typeface="Times New Roman"/>
              </a:rPr>
              <a:t>         </a:t>
            </a:r>
            <a:r>
              <a:rPr b="0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1</a:t>
            </a:r>
            <a:r>
              <a:rPr b="0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．对现实的正确认识。看问题能持客观的态度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 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         </a:t>
            </a:r>
            <a:r>
              <a:rPr b="0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2</a:t>
            </a:r>
            <a:r>
              <a:rPr b="0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．自知、自尊与自我接纳。能现实地评价自己，不过分地显示自己也不刻意地取悦别人。既接纳自己的优点也接纳自己的缺点。一个人如果连自己都不喜欢，又怎么谈得上喜欢别人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 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          </a:t>
            </a:r>
            <a:r>
              <a:rPr b="0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3</a:t>
            </a:r>
            <a:r>
              <a:rPr b="0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．自我调控的能力。能调节自己的行为，既能克制自己的冲动，又能调动自己的身心力量，在实践中实现自己的更高级目标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 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           </a:t>
            </a:r>
            <a:r>
              <a:rPr b="0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4</a:t>
            </a:r>
            <a:r>
              <a:rPr b="0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．与人建立亲密关系的能力。关心他人，善于合作，不为了满足自己的需要而苛求于人。这种人有知心的朋友，有亲密的家人。而不健康的人，人际关系紧张，处处利用他人，以达到自己的目的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 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            </a:t>
            </a:r>
            <a:r>
              <a:rPr b="0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5</a:t>
            </a:r>
            <a:r>
              <a:rPr b="0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．人格结构的稳定与协调。这种稳定与协调包括理想与现实差距的调适，包括认知与情感的协调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 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            </a:t>
            </a:r>
            <a:r>
              <a:rPr b="0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6</a:t>
            </a:r>
            <a:r>
              <a:rPr b="0" lang="zh-CN" sz="2000" spc="-1" strike="noStrike" u="sng">
                <a:solidFill>
                  <a:srgbClr val="ff3300"/>
                </a:solidFill>
                <a:uFillTx/>
                <a:latin typeface="宋体"/>
              </a:rPr>
              <a:t>．生活热情与工作效率。人人都会有苦恼，但心理健康的人能从生活与工作中寻得快乐。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0"/>
            <a:ext cx="990720" cy="99072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5867280"/>
            <a:ext cx="1371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Arial Narrow"/>
                <a:ea typeface="迷你繁篆书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99ff"/>
                </a:solidFill>
                <a:latin typeface="Arial Narrow"/>
              </a:rPr>
              <a:t>中学生为什么要培养良好的心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7080" indent="-455400" algn="just">
              <a:lnSpc>
                <a:spcPct val="13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(1)</a:t>
            </a:r>
            <a:r>
              <a:rPr b="0" lang="zh-CN" sz="2800" spc="-1" strike="noStrike">
                <a:solidFill>
                  <a:srgbClr val="ff9900"/>
                </a:solidFill>
                <a:latin typeface="宋体"/>
              </a:rPr>
              <a:t>思维具有更多的抽象概括性，辩证思维开始形成</a:t>
            </a:r>
            <a:r>
              <a:rPr b="0" lang="zh-CN" sz="2400" spc="-1" strike="noStrike">
                <a:solidFill>
                  <a:srgbClr val="ff9900"/>
                </a:solidFill>
                <a:latin typeface="宋体"/>
              </a:rPr>
              <a:t>。　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宋体"/>
              </a:rPr>
              <a:t>(2)</a:t>
            </a:r>
            <a:r>
              <a:rPr b="0" lang="zh-CN" sz="2800" spc="-1" strike="noStrike">
                <a:solidFill>
                  <a:srgbClr val="ff9900"/>
                </a:solidFill>
                <a:latin typeface="宋体"/>
              </a:rPr>
              <a:t>思维的独立性和批判性更加鲜明，思维的片面性有所改善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(1)</a:t>
            </a:r>
            <a:r>
              <a:rPr b="0" lang="zh-CN" sz="2800" spc="-1" strike="noStrike">
                <a:solidFill>
                  <a:srgbClr val="ff9900"/>
                </a:solidFill>
                <a:latin typeface="宋体"/>
              </a:rPr>
              <a:t>自我评价能力进一步提高。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(2)</a:t>
            </a:r>
            <a:r>
              <a:rPr b="0" lang="zh-CN" sz="2800" spc="-1" strike="noStrike">
                <a:solidFill>
                  <a:srgbClr val="ff9900"/>
                </a:solidFill>
                <a:latin typeface="宋体"/>
              </a:rPr>
              <a:t>人生观的初步形成。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(3)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理想的初步形成。 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(4)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社会性的发展——社会交往大大扩展。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5943600"/>
            <a:ext cx="1523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BAC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01:27:0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25:54Z</dcterms:modified>
  <cp:revision>13</cp:revision>
  <dc:subject>主题班会课件(分28大类): http://shop62905894.taobao.com</dc:subject>
  <dc:title>主题班会课件(分28大类): http://shop62905894.taobao.com</dc:title>
</cp:coreProperties>
</file>